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806-BAF6-4E84-9C1E-43A29DF0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B56-69C4-43B9-A9ED-1268CDA0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E1855-FBEA-462E-AD7E-3835DCB1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0ED2-2B7C-45E5-8490-2C9D59A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CD8C-9574-493F-8282-2F1D47A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4CC53-278D-453E-AE64-ED25D05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9F824-F51D-41B5-9FC3-5A21BD9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E6FD4-7238-49D2-9349-D306930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6DC4B-795E-4DA2-A58D-66EF384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191B7-A35D-4F04-A9EB-0466B579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472D-20F2-4B17-8AF2-75508535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AE8B2-316B-42FC-B1A1-C117924F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F03-300E-46A7-9F8E-B5570E6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9FC00-7B6F-4C87-89DC-D585F3D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4431B-A454-40A7-B194-74B9B04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2C0B8-1C16-4CAD-9849-0AF941C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10214-3700-4319-9D6D-E240EDE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6219B-A0B2-44A8-9B7D-0018B64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E10C-71F5-49E3-A637-D218399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C4A08-9308-4B62-AC06-FF410FE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6B58C-B520-4450-9014-A57C22B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2837E-85F0-44A4-B22B-4BC9EF2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27DE1-BB58-4BB4-8A33-A97BC31D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330-998F-4C39-A904-71F73E86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F5F9-C292-4F9A-90C4-E4BC17A4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86856-4A70-47DB-94A1-C4AC3E2D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3861-F5D3-4B25-AD96-186DCE6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059DE-76C6-45E9-8A80-BE30FA1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A3C5F-3673-4279-8E58-2E4747B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B7164-A50C-4750-89F5-BD3F4784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001E7-934E-4106-B5AB-CC0B247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3AC33-0675-4BCB-A7DA-0BEB4FD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597A2-066F-48B0-9FA2-4E84B74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708BC-B5C4-4A17-832B-D04A1BE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9E9-53F6-4780-A769-04786736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3047C-519A-4B5A-B7D1-439BE9AC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903BA-AED3-49FA-880E-4862778F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F1FB-E1F2-4C6C-B96A-1D3997D4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8DD9-CFB4-43E5-8E1D-1B882E0D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4922-FE97-422B-AC2A-8F32041D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2FF22-9A2B-44E1-8BBC-F3E1991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D2BCD-CC26-4DC4-B146-05EDA872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DD2E-F6D1-4C5B-91B2-60F57FF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834EE-4D7E-4C7F-9B9C-12892D9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9D214-DB4E-498E-AE28-A637992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223-EF3E-4153-A005-8C9E1365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76D9C-8778-421D-8C1B-06CA808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DE160-63A6-4691-B392-1367D3A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BE714-7377-4C6C-B711-5979D9B3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43D7E-E65B-4F0F-A5A5-761D4F57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885F0-D089-4D8B-9D13-0B75FDA2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C569A-4B39-47A3-9368-FC617900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BEDB6-CF68-4FEB-87F3-174817B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2AD5F-CA9E-4184-882A-902D700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1760E-56E3-47C2-B322-E9B3FFC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2E60B-34D1-4088-BBCA-A9CD5B9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4C5A-5605-4A56-9466-E9DAAC4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5A3C0-6276-4E40-9248-2165921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FEC10-330F-409D-999C-09EEF696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24A7F-2B28-4714-8F65-4190CD3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421E2-5DE1-4C23-A4FA-E595C12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E9406-337E-4237-8E69-41283280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E7152-C114-4E11-B949-1A26FC57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147A6-A80F-4782-89C2-666B4103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94491-4E80-45B0-9788-1DE6D5C0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1BB46-977B-436C-8E23-5938AEE2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C0E66-9403-4AE3-89D3-D2CD8C93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FCC-D901-45C2-83FF-6F556CF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33EDB-EEEA-459F-8B1B-2F51B486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676A1-1844-4A6F-8858-E28A798E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ADAFD-4BDB-4479-9A58-1F2016B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07DBA-5627-4B2A-879B-FB0F0B69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F06B2-F366-4C70-9CFC-11D8B88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BBF69-2CF1-4222-92E3-A424D73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22320-7A5A-41E5-A860-86A3A74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933E3-FA49-4FC7-9894-DE11D145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AB808-F706-4891-981C-F36CEE66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13EEF-408F-47A0-BF5B-A290DAD7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922-0483-4120-BA06-256912A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086C6-D256-4AC6-91F1-9759D128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780DA-C9D9-4C23-A272-331D5D4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AA42B-970D-4660-AED0-9469175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87D9A-BE15-4E34-BCA9-E72966F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7B46A-E23A-4F80-A9FE-D5E02706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4308C-211D-42C4-A0F8-A9EE9D77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61D50-6D4B-4CAE-A157-CA20A1C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0D23E-5304-4277-BF10-F805DC4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C1B80-E67D-49BD-AA74-BF74E9D9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B61F3-D85A-40D3-8F02-C0F3B0D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E163-42CF-4882-844D-6859F7EC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47A1A-1620-4C3B-B2BA-0BA7524F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5DBA6-7407-43DF-8AE7-FC27F6D9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66F0D-DDC4-464B-85F1-CB220528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0A9AC-70B9-4C5F-A78F-183DAFD1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097BB-379B-4199-9950-11B126A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72C06-547E-4D18-A97B-4E1B7B9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6BFFF-C3E0-4625-A2F8-32AD7FEB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A1A2E-C322-4EFB-A815-ADEEAFC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5D778-35B5-4FAC-B91C-1D68152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1291B-2BEC-4928-B05F-6E1733D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15C6-7565-4285-9990-C700917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22664-0AE7-4107-9DB8-F916E70A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4D37A-DE7E-47ED-B123-5C2BC7B3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E7DB5-7CFF-414D-93B7-8D65A400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E5343-5545-4B74-9C18-4428D1CE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30E5E-A618-4DF5-85BF-5A9892F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0D930-18E3-4702-B439-14359B2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43562-7D54-4470-81C3-C6A0454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8A7BB-F2AF-4F5A-B940-71B4E998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27E98-D551-4A58-AFFE-E80F4DA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35E4A-6735-4651-BF80-684C5346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3CC-3A06-43B6-AA02-9D28B12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EAC1-EBF9-4606-AACC-6836381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0CD45-E685-4CBD-9035-8CF9D65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FB5B1-4E0C-444F-8C61-5DF9752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63172-FBF7-40F2-9823-6850CEFE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A5686-5F47-4E94-915D-E8D3BF37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B0F92-EC27-466D-BC0C-1B776A6D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B3C25-E38C-4DE9-A205-47A7607D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F6330-0E5D-48F3-B4C2-0F396FD5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97308-57FA-44B0-AEFB-4DEFB5B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699A7-F490-4157-92CF-424EF24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4496E-FBD2-424B-8921-89B0FEB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856-1BF4-4716-8A5C-8080AA8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C2A4A-D235-4E44-89E6-06FB23BF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02074-E2F7-4D87-AF58-A1AA8A3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EB763-2858-4860-91D4-7B972FB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493C0-BC0B-4B08-96BA-0FC4A88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36C9D-C926-4221-9D92-9D6D64F4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2BF4E-09BC-4EE2-91CE-ED15E483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097B0-D555-49BE-8710-EF9B1851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43DC4-961E-4D14-9C22-8B086970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2C690-121A-4AAC-92DB-1AA2AF6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FE969-8B02-4394-976A-ED1CF1B5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8A9-E51F-4C09-948B-ADEEB280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AE6CB-662A-4C7F-A468-67FF6D15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D7C16-F2D6-417B-8662-C6A0CB1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6FE1B-970D-4CCF-9DCB-0348AD4B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3EE6A-F82F-483C-A3DF-16282F8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73B03-2D20-428F-A653-F254E3F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7E021-EC79-458F-8327-898542B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29898-789F-4A78-A4DB-BF1A993F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99541-1709-4720-9F58-0019A8E7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07F39-63C3-4C55-90DE-52E891D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7631C-EBD8-459D-A944-0909BD4A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884-3E28-431C-BE5D-2D71F3FA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3F415-9EE5-4E06-8291-D63573B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9D255-DE1C-4BBD-A17B-226804AF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2CD53-70C6-4438-97C8-61DA5BC6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AA64B-EE16-47E7-9EE6-5AEC0021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A2213-7BAA-46F0-B8E3-20922B18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5A6A2-5611-45B6-BF59-67A9E0CC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4B025-D83D-4240-917C-AC4CF28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22811-9B0F-40EC-B68C-F839B66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97913-32CB-42A5-98F2-72162EA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B3E3E-EB00-4572-9751-701CF5B9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FB3-89FF-4D18-A8AD-D1057C14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EB952-DCCB-44B1-9360-632A91C5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10458-7384-4D42-96D5-1138A6A3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7AD9B-8261-49AE-B3B6-0B1239AD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C26CB-7E52-4947-BB5F-CD081060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400C8-8F2F-4ADF-8FA1-5B2AF636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6EA49-E875-4170-995B-5F366116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42704-82A9-48B8-9A50-6F791FE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32BBD-3901-45FE-974E-D871822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BF0B0-99E3-4A17-8261-CE208A6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88D20-A6FD-49F0-8454-602102B6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50AA-F3D9-475E-B1DA-4D91E130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3DA25-B68F-455A-8675-042B0D62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47A77-DD43-4BE7-A556-850E69A6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6F18C-E2E3-42E9-867D-B0F78F5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C817-B9F0-436F-B358-E873D20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8CE7-0055-4415-B64A-ACF4BD3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1A79-133A-4014-86EA-F5D1351B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A6EF-3F33-49D4-BCB9-87F2F01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E3A-46FB-46D5-8A89-83ED42C5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4E32-3EC3-45A6-9493-88C7F6D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ADF1-6BC1-488E-9D17-4F0E7AFE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3BF2-47AA-4C15-B6E3-BFD0F96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3A05-4A6E-4F3E-951F-4E72B2F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25AA-9602-4020-84D2-1486494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ED53-A060-4D74-97D4-A4D069D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1E93-7523-47D8-ABC0-A0750AC2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82DB-8E69-4DE7-BBDD-282CC061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1998-CD11-4B9A-9D0F-6CE9CC3B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4FD1-0D1C-4CFE-8245-4E587A9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1BD-5E1D-43D2-AF78-B02DC8C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E4D2-D067-4408-B8AD-E3AA624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F4DD-9C65-4C65-BC14-B5A4DFD3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9E8E-C315-4965-B639-62E30BD2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4B2A-F09C-49B4-915D-739BF9F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A4C2-D40D-4A8A-9D4D-58B50DF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DAD1-0BD7-412D-B063-083560A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D084-0408-40C6-BE9D-0DA2269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BD0F-2E9C-45AE-84FB-75CBA24D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77E6-EA11-4731-BC75-DE88FBF9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FDF2-5B6A-46E2-8034-329F5056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955-AB9D-4C0E-A57F-4CEE6D2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205B3-092A-4C52-85FC-567202FE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B9BD-41D5-44A1-B7D7-E4070BF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9194-138C-40FA-831E-F42A4CE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C92E-75D7-486B-A3BA-8614108E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7E31-3D16-493D-9746-171CF0A4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C967-0913-4689-8DEF-1C536E61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98AA-AC8B-45B3-AEA2-750D743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B2E3-1FBC-4257-BBBC-B30F1F5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5003-F4C9-4D25-9D9F-5E5742D3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CAFD-7D40-4D59-8ED5-8DBAD7CB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455-D9E6-44E9-A99E-EBEE3DF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78F9-D891-4D9D-B860-0987AD1D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F273-E5E6-4BCB-A9E6-2AEDACE4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2232-93C8-4EE0-9801-B45A5295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E69AF-9C73-46DC-A8F5-4DF1A081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92F2-8BB3-4CE2-9D6B-923F167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CB26-847A-427D-A1BA-9CA9F3A1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A061-9F7E-43C1-A8AC-7151EDA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925A-14F6-4487-BC98-73E5D0E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D9EC-7238-4BD8-BD21-F9E8736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D876-7608-4283-AF06-41DCE101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17F-4F1E-459E-B58C-2612D29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FF3C-5B70-4C15-97B2-7B162AA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09D8-EA99-488E-AB41-9DE0F502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3176C-CBD8-43B3-91ED-9FE55135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41B2-2617-4CA1-A397-4D08556D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9EB1-C37D-4B4D-923A-2DE87A8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E84E-7E9F-4482-BEB2-E376CE6D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40C8-ED2F-466F-8A5F-05DD06E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31DBD-25C4-436E-8AF6-2EEE6C3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9FEE-B77C-4F4C-A5AD-6382D8F4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FEAC-8ADF-452B-BD5C-42E8409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679-F8E0-4F15-9228-5EB5B30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EAFD7-6076-4A19-8E75-5E89BEF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5D45-EA52-429B-BB19-0A8FCBB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B426-A55C-4136-BB9B-86788177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AAA6-82B2-443A-AD01-F90A5AC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5CBC9-A3F1-494F-8E75-C26E1D06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2225-16F3-4919-8CCA-619586D2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5DCAF-F9BF-4CD3-AF75-8670CE01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B2FB-7BBA-4F5F-BFAC-9950960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A8E3C-9F46-443C-A275-8CAB06B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71DA-A801-4854-A356-28B266A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6B2-E06E-402D-B56D-B1FD8B7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F996B-8800-49CC-9943-F0682F16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295F-83BC-4D1E-9798-8C0272B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0106-663E-4479-9559-D67735B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81A0-B89C-4A85-A626-F892A56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4F48-62CA-4499-974C-076D376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7C91-66DC-4F16-AA9D-2718F1C2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83A39-B4F7-4E63-802A-2B310B3B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8F40-A347-4194-B80D-786B682A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A7421-AE93-4222-80B5-E84A1F0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77F1-BFF8-45E6-9F5C-CC0DA43D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59F-C8CC-4017-B4D5-CCEFDC5B1A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917-43F6-4893-96FB-34029F6E8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158-CC89-465C-8CDB-258948243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47A-C189-42DD-9F67-488836503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63A9-5903-42C7-A1DA-5A2F3156E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26E-271E-4A81-B4AC-A0CA01EF9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197-A02B-44E7-97A1-377B3C8625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A7B-6986-4319-9B22-185D40A48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78F-07FA-445A-8007-D22AC7BA97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ADB-1926-4931-99A7-652B06152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524-DA1D-4D4E-BE56-2E3C514C9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166-DAD3-45A5-A4DE-D9E16C75C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4A37-955B-4FFD-B4CA-4BD3868224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3D5-4D5B-4EB1-AA7F-B920B209C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690-4807-4730-8ADE-1156D0049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21A-4320-427E-8CCB-C14EF7BC7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883-F87F-47DC-AE09-DBE4CEF30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460-D939-4F37-9166-A2B44C682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AE9F-2180-494D-8954-02E7693503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59CC-1C67-443C-9730-A4FF90BFA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BEBB-87AC-42AB-9132-A18BC2164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F544-62FD-4A0F-B158-881D0577B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6AB2-1369-4E62-994E-4D36F9045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1FD-D4E7-405F-9202-C4CFE6EAF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AE04-BD04-47EC-8FC6-44B7E258D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D63-E8C3-4F8C-8D30-26F9D32A0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4C0D-DED3-48A4-9C25-1D73A99BB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90B-0458-471E-9096-2CA9339FA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14F-A59A-4FE8-8921-3E3DC994E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AA6E-027C-47DE-9F40-25AC9F3BB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C029-1C9A-45B2-A54E-44EC825FFF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E51-492B-47D1-9FF4-53E7FBA29F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B6B-2996-4B0F-BC29-A0FE3E91FA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D45-EB03-412D-9F7C-EAAC8A0B9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50D0-AB70-4983-AC0C-125E3C553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193-0687-4768-BC2C-7B0B0D7DC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E294-16DB-46BF-B16B-3907A1A16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DDA-AB43-4158-B0AC-EF538A0E1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335-2F5E-4554-AB3E-0E440EF19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BF6-AD7F-4674-9862-5BE3F92A7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2909880"/>
            <a:ext cx="4581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547560" y="1895400"/>
            <a:ext cx="8048880" cy="30672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663640" cy="935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664000" cy="934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8208720" cy="512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39640" y="3687840"/>
            <a:ext cx="8209080" cy="512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539640" y="4307040"/>
            <a:ext cx="8209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8609" descr=""/>
          <p:cNvPicPr/>
          <p:nvPr/>
        </p:nvPicPr>
        <p:blipFill>
          <a:blip r:embed="rId1"/>
          <a:stretch/>
        </p:blipFill>
        <p:spPr>
          <a:xfrm>
            <a:off x="299880" y="1341360"/>
            <a:ext cx="8544240" cy="537228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8610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4162320" cy="112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900000" y="3386160"/>
            <a:ext cx="6336000" cy="512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870120" y="4033800"/>
            <a:ext cx="6335640" cy="907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00000" y="5099040"/>
            <a:ext cx="6336000" cy="512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684360" y="5791320"/>
            <a:ext cx="6335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7585" descr=""/>
          <p:cNvPicPr/>
          <p:nvPr/>
        </p:nvPicPr>
        <p:blipFill>
          <a:blip r:embed="rId1"/>
          <a:stretch/>
        </p:blipFill>
        <p:spPr>
          <a:xfrm>
            <a:off x="733320" y="981000"/>
            <a:ext cx="7677360" cy="22669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7586" descr=""/>
          <p:cNvPicPr/>
          <p:nvPr/>
        </p:nvPicPr>
        <p:blipFill>
          <a:blip r:embed="rId2"/>
          <a:stretch/>
        </p:blipFill>
        <p:spPr>
          <a:xfrm>
            <a:off x="262080" y="3422520"/>
            <a:ext cx="8619840" cy="2238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471920" y="1542960"/>
            <a:ext cx="892080" cy="5130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740720" y="1484280"/>
            <a:ext cx="892080" cy="512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643280" y="2147760"/>
            <a:ext cx="892440" cy="513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581960" y="2205000"/>
            <a:ext cx="892080" cy="512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268360" y="394812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5148360" y="4005360"/>
            <a:ext cx="718920" cy="512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726320" y="4005360"/>
            <a:ext cx="949320" cy="512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893960" y="4653000"/>
            <a:ext cx="949320" cy="5126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5176800" y="465300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8272440" y="4681440"/>
            <a:ext cx="71928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85640" y="1266840"/>
            <a:ext cx="8172720" cy="4324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1720800" y="3556080"/>
            <a:ext cx="4524480" cy="6951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1735200" y="4694400"/>
            <a:ext cx="4543200" cy="66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740720" y="450864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14520" y="2362320"/>
            <a:ext cx="7914960" cy="213336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59411" descr=""/>
          <p:cNvPicPr/>
          <p:nvPr/>
        </p:nvPicPr>
        <p:blipFill>
          <a:blip r:embed="rId2"/>
          <a:stretch/>
        </p:blipFill>
        <p:spPr>
          <a:xfrm>
            <a:off x="1316160" y="2533680"/>
            <a:ext cx="4533840" cy="6382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2" descr=""/>
          <p:cNvPicPr/>
          <p:nvPr/>
        </p:nvPicPr>
        <p:blipFill>
          <a:blip r:embed="rId3"/>
          <a:stretch/>
        </p:blipFill>
        <p:spPr>
          <a:xfrm>
            <a:off x="1330200" y="3643200"/>
            <a:ext cx="4496040" cy="638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7394400" y="4005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7451640" y="3414600"/>
            <a:ext cx="57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33240" y="1442880"/>
            <a:ext cx="7877520" cy="3972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584440" y="273672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356000" y="214776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084720" y="27226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2556000" y="383220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211640" y="32274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5940360" y="32274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1835280" y="4941720"/>
            <a:ext cx="576000" cy="513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4356000" y="434988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6084720" y="4941720"/>
            <a:ext cx="576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66760" y="1662120"/>
            <a:ext cx="8610480" cy="3533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18124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7740720" y="314172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2138400" y="4221000"/>
            <a:ext cx="576360" cy="935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5003640" y="4221000"/>
            <a:ext cx="576360" cy="935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7740720" y="4235400"/>
            <a:ext cx="5763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28600" y="1014480"/>
            <a:ext cx="8686800" cy="4829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2124000" y="4653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140360" y="465300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585720" y="2233440"/>
            <a:ext cx="7972560" cy="2391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95200" y="847800"/>
            <a:ext cx="8553600" cy="5162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4321080"/>
            <a:ext cx="4535280" cy="979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95280" y="5473800"/>
            <a:ext cx="79930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2" descr=""/>
          <p:cNvPicPr/>
          <p:nvPr/>
        </p:nvPicPr>
        <p:blipFill>
          <a:blip r:embed="rId1"/>
          <a:stretch/>
        </p:blipFill>
        <p:spPr>
          <a:xfrm>
            <a:off x="266760" y="1185840"/>
            <a:ext cx="8610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7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